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BB5-B51B-46F7-82DC-4CAB3F81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2D0-A916-4F2F-9D1E-A8030814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A2B-93E9-4015-A0B9-0EFD9650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1A9-3C6B-4483-B18F-BB984F9D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9FE-9008-4E28-86E2-29B5140F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906-6D9F-4596-9C50-B1A6967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C43-0766-44D3-90F2-ECF23AD2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343-739C-4BD2-B342-FBC7A957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157-DC85-49A9-B80B-15EFF6CE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3B1-C17F-4A39-9BD2-564F5D1A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103-3659-4424-80FE-3ADC71C4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C14-F646-4173-B8BA-EAAE593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C31E-264F-495C-8B9F-218D9D3F9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40" y="151920"/>
            <a:ext cx="89154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Me llamo ___________  Clase 701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La fecha es el  11 de febrer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1599840"/>
            <a:ext cx="8762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4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QUIZ 2: CAPITULO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2 Spanish sentences about each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te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asque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2: Capitul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OS DEPORTES POPULARES EN ESTADOS U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53352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cp:lastPrinted>2015-01-23T14:39:15Z</cp:lastPrinted>
  <dcterms:modified xsi:type="dcterms:W3CDTF">2016-02-12T00:01:17Z</dcterms:modified>
  <cp:revision>40</cp:revision>
  <dc:subject/>
  <dc:title>Me llamo ___________  Clase 7 IM La fecha es el 18 de noviembre del 2010</dc:title>
</cp:coreProperties>
</file>